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5F8-4497-4316-AC59-726F0E759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058C-3F3D-424D-81D6-797DE66CA42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B826-7CE5-4531-AA0D-795D80BCB94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F0DB-CE6E-4C50-B969-D247D205CC8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120C-6A8C-4C49-A175-6AA6ED06E35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89BF-F8E3-4A87-A765-58B839097E1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is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3454-A99C-43D7-8234-07272A00E20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298-1BDE-4D03-BE77-9C66CC2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3CF-6C3D-49C3-BE00-F30ACA5D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1B57-540D-4CD3-AC4B-38F09400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9C6-3FBB-44C7-A813-9ACD8361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B2F-DDF4-4E01-A040-B747FB9A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1D44-C0A1-43AC-AE83-B3DB8869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02E3-8C61-44EA-83D6-6149A835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F9CF-FED1-4CA4-93CF-4C5130A8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FB3D-624F-4A9D-83F6-B73C9F1B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3C8A-EF7A-4F4B-A1EA-F811339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020-D943-40BB-9973-01A90B47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EDF-0C40-4C8B-AAB0-54545085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CFB3-6661-4F72-8CCF-8281C837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29B6-EF12-4E9C-9BAA-010E0F96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C015-E3AA-4699-B63F-F93FF926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DE61-B4D3-465E-A879-92D93248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AF2B-9ACB-4038-80B8-0DE57662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EF5-3F00-4DF2-9D3F-16DAC4E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A17-7B12-4583-9401-B12A90D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E14-5E4C-4CE7-8922-3F20552F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71D-0A89-4F20-8C75-7F54B2D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1A1-3659-4B36-BCB3-A774541A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C3E-5C73-43BB-93EC-3EE180C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896-0037-44CA-81B4-E0EB853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8FE-8577-4FD0-8095-7878DC069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1859-99AB-4CC1-A90D-49F43886719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learnnc.org/lp/pages/2976" TargetMode="External"/><Relationship Id="rId6" Type="http://schemas.openxmlformats.org/officeDocument/2006/relationships/hyperlink" Target="http://www.learnnc.org/lp/pages/2976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rategy Instruction for Making Predictions and Making Connectio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You Try Now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rite your Think-Aloud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k students to Notice &amp; Apply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will do more of this for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ook Activity 3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you can choos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redict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connect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aking Conn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Good readers actively relate ideas in print to their own knowledge, experiences, and other text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Making connections helps readers to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late to characters with links to their own experi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 particular 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 pay attention and remember (store) main ideas for later recal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 to better make sense of or clarify the ideas from a reader’s own perspective (“So, is that like when…?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Teaching Connecting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connections may be irrelevan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connections may pull attention away from the main ideas of the new text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need help understanding that connections are helpful for understanding new material (not just for sharing their own experiences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levan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onnections in ways that help them to  better understand the current tex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types of connections can I make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self connection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s reminds me of a time when I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text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s book/character/event is a lot like/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ery different from ___ because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world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 once heard about 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xt-to-author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s reminds me of how this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always 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6"/>
          <a:stretch/>
        </p:blipFill>
        <p:spPr>
          <a:xfrm>
            <a:off x="6629400" y="5143680"/>
            <a:ext cx="1525680" cy="72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7"/>
          <a:srcRect l="0" t="0" r="0" b="17922"/>
          <a:stretch/>
        </p:blipFill>
        <p:spPr>
          <a:xfrm>
            <a:off x="6477120" y="4114800"/>
            <a:ext cx="1676160" cy="754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8"/>
          <a:srcRect l="0" t="0" r="0" b="21126"/>
          <a:stretch/>
        </p:blipFill>
        <p:spPr>
          <a:xfrm>
            <a:off x="6400800" y="2133720"/>
            <a:ext cx="1711440" cy="68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9"/>
          <a:srcRect l="0" t="0" r="0" b="30521"/>
          <a:stretch/>
        </p:blipFill>
        <p:spPr>
          <a:xfrm>
            <a:off x="6934320" y="3276720"/>
            <a:ext cx="153324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can I make useful and relevant connection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Connecting Tally Sheet (p. 207) – but don’t get tied down to these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Connect to character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Connect to plo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Connect to the setting or pla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Connect to visualize, taste, feel, or hear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Connect to predict or infer what will happen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Connect to what I know about a topic or wor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Connect to help me feel emo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Connect to what I know about text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fter Modeling…Activities to Practice/Apply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back to the tally sheet of clues to use for predicting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itle…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nticipation Guid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. 86-see next slid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pic/Vocab…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dict-o-gram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ee next slide)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icky Not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Ques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. 88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view, Read, Ques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. 88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/Genre…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ory map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; genre features (p. 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what you’d find in types of expository texts: ABC books, magazines, newspapers, ads, brochures, invitations, menus…fairy tales (e.g., Cinderella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ll ideas for your own lesson pla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ticipation Guide: </a:t>
            </a: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uck Everlasting by Natalie Babbit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ajor themes – write several statements – students discuss &amp; react before reading and then revisit af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3510000"/>
          <a:ext cx="7543800" cy="266364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  <a:gridCol w="541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t would be wonderful to live forever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should never do something that your parents have forbidden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should have the right to sell products even if they are harmful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me secrets are so important that it is acceptable to do anything in order to keep them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-o-gram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ow Boy by Tara Yashim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aro Yashima use each vocabulary word? forlorn, interesting, trudging, imagine, graduation, attendance, admired, announced, charcoal, rejec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3581280"/>
          <a:ext cx="7086600" cy="256068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Where the story took plac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in the story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roblem or goal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th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ain character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lution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o the problem or </a:t>
                      </a: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ttainment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goal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ory Map/Genre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Use to predict story elements in Cinderella for example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7" name="Picture 5" descr="Picture 1.png"/>
          <p:cNvPicPr/>
          <p:nvPr/>
        </p:nvPicPr>
        <p:blipFill>
          <a:blip r:embed="rId1"/>
          <a:srcRect l="0" t="18892" r="0" b="0"/>
          <a:stretch/>
        </p:blipFill>
        <p:spPr>
          <a:xfrm>
            <a:off x="2209680" y="1981080"/>
            <a:ext cx="433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ctivities to practice/apply Making Connections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Use sticky-notes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to make connections while reading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Tally them up after and encourage students to expand the types of connections they make the next time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Connections Continuum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Generate a list of connections on sticky notes and ask students to sequence in order from most meaningful to least meaningful</a:t>
            </a: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(encourage students to remember this when they make their own connections)</a:t>
            </a: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Story Map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Anticipation Guid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are and contras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ross a genre (e.g., fairy tale) or across several variants of one story (e.g., Cinderella)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key components of Metacognitive Framewor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Review important considerations for teaching students how to “predict” an “make connections” while read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Apply these strategies to your own reading of a text and practice modeling for students – in preparation for your book activ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Sto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Exposi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ackground of characters &amp; sett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protagonist and antagonis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flic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he proble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ising A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uilding the ten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limax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h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urning poi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of the story (not most exiting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he problem is solv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lling A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ie up loose ends/provide closu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essage or lesson conveyed (not just a topic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879480" y="5562720"/>
            <a:ext cx="7800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o these play out in the traditional Cinderella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, Oct. 11 – NO CLAS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tip: pretend Book Activity 3 due her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 Hancock Ch. 4: Modern Fantasy (elem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y for quiz on Thursda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13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ook Activity #3: Strategy Script due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Finish reading Vacation Under the Volcano (will be on quiz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Quiz #1 (see wiki homepage link for quiz topics) – should take about 30 minut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 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? (name it and define i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importan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do you use the strateg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useful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remember Explain &amp; Define; Notice and Apply from your textbook as the MODELING phase of strategy instruction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Why do good readers predict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gives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build internal tens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anticipate a satisfying e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rior knowledge &amp; new inform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dictions serve as guidepost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e monitor our predictions from time to time to see how they hold up (That’s what I thought! -- Wow, that’s not what I thought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predictions are often inaccurate, because of the text or the read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underestimate the importance of text features in informational tex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ny children don’t take the time to predict properly and never revisit to solidify or revise their predict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predictions that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ccurat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 prediction is more than a guess – “an educated guess” perhap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two things do we need to make a good prediction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efine: What is a predic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62120" y="4572000"/>
            <a:ext cx="2590560" cy="459720"/>
          </a:xfrm>
          <a:prstGeom prst="rect">
            <a:avLst/>
          </a:prstGeom>
          <a:solidFill>
            <a:srgbClr val="ff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UES IN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343400" y="4419720"/>
            <a:ext cx="2590920" cy="825480"/>
          </a:xfrm>
          <a:prstGeom prst="rect">
            <a:avLst/>
          </a:prstGeom>
          <a:solidFill>
            <a:srgbClr val="ff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ACKGROUND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3660840" y="44593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547040" y="4495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971800" y="5486400"/>
            <a:ext cx="2590920" cy="459720"/>
          </a:xfrm>
          <a:prstGeom prst="rect">
            <a:avLst/>
          </a:prstGeom>
          <a:solidFill>
            <a:srgbClr val="ffd2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lain: 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 good readers predic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Predicting Tally Sheet (p. 204) for CLUES IN THE TEXT but be careful about being too prescriptive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tle, headings, cover, pictures, ca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Ask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Knowledge of the topic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Knowledge about the author/genre/book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Text organization &amp;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Past events in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Meaningful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Knowledge of the charact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DEL = Define… Explain…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ice… Apply…Clarif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efine and Explai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is a prediction different than a gues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od, so what I hear you saying is predicting i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lai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Clues &amp; BK = Predict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ood readers make predictions using clues from … (THE TALLY SHEET). you’re going to think about what you used to make that prediction.  What clues in the text? What background knowledge in your head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del … Notice &amp; Apply 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larif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um up at the en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inking Aloud in A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let’s see how this all plays out in a real read-aloud/think-aloud -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Amos &amp; Bori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y William Stei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ook for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defining &amp; explaining how to predict and why predicting is use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“thinking aloud” to mod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asking you to “notice” how I predicted and how it was usefu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amples of me gradually inviting you to predict WITH me (but also offering support and clarificatio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6:07:11Z</dcterms:created>
  <dc:creator>Julie Coiro</dc:creator>
  <dc:description/>
  <dc:language>en-US</dc:language>
  <cp:lastModifiedBy>Julie Coiro</cp:lastModifiedBy>
  <dcterms:modified xsi:type="dcterms:W3CDTF">2010-10-06T20:17:46Z</dcterms:modified>
  <cp:revision>199</cp:revision>
  <dc:subject/>
  <dc:title>Metacognitive Strategy Instruction to Enhance Reading Comprehension</dc:title>
</cp:coreProperties>
</file>